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6.jpeg" ContentType="image/jpeg"/>
  <Override PartName="/ppt/media/image55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7C6-2443-47DF-9882-3C3DE5F8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D6D-68F4-4724-B0B0-3DAA1222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A52-3AD7-4EA5-A804-EED13AE6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7A0-8078-418C-9A46-3F929A9D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FF8-0856-4AED-89E7-B0CE3761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32C-5743-4DB9-A80E-98801C4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DC5-D170-4F99-8319-0A67EF13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57A-0420-4E1B-BD33-0A132A99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DAE-CF00-42E7-B8E5-D1ED30FA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F58-8BDB-427B-8704-6BCBC66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591-03EB-49A3-AA97-FDB5BF79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0BD-0CAF-4E89-ADAE-C94A186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7AF9-A99C-4D6D-BA7D-DF350FFE6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thenewjew.files.wordpress.com/2007/10/israelmap2-bttr.jpg&amp;imgrefurl=http://thenewjew.wordpress.com/2007/10/13/jewish-national-fund-hosts-alternative-spring-break/&amp;usg=___6KH2GSrLdkuJLEI7no2Wyq3YAo=&amp;h=542&amp;w=250&amp;sz=49&amp;hl=en&amp;start=15&amp;sig2=UZQHNqI_20JMz-ULv8GdEw&amp;um=1&amp;tbnid=NG16yY5UaPSpBM:&amp;tbnh=132&amp;tbnw=61&amp;ei=AziSSY6mHcrBmQfhl_i2DA&amp;prev=/images%3Fq%3Dmap%2Bof%2Bnegev%26um%3D1%26hl%3De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allbiz.co.il/Pictures/15563/66517_07890022_2.JPG&amp;imgrefurl=http://www.allbiz.co.il/ShowPic.asp%3Fid%3D20420&amp;usg=__CFyuY5962PDzLqiCEKZkzFFB7YY=&amp;h=630&amp;w=950&amp;sz=173&amp;hl=en&amp;start=11&amp;sig2=6f7BqfLrdavSVi0dqRnXDg&amp;tbnid=68Ip6StGZw-PYM:&amp;tbnh=98&amp;tbnw=148&amp;ei=2zySSeDGCNXkmQf-jNCq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helhashalom.co.il/images/DSCF0093.JPG&amp;imgrefurl=http://ohelhashalom.co.il/what.html&amp;usg=__CtYKBRWWL1oUTt4MT4phD2daxlc=&amp;h=479&amp;w=640&amp;sz=68&amp;hl=en&amp;start=16&amp;sig2=ogElcQAuY4LURQDKgw09DA&amp;tbnid=nAtPgw-7tSpoGM:&amp;tbnh=103&amp;tbnw=137&amp;ei=2zySSeDGCNXkmQf-jNCq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jordanbeauty.com/images/bedouin06.jpg&amp;imgrefurl=http://www.jordanbeauty.com/Bedouin-Faces.html&amp;usg=__4SPLHr47hOpejvMjGzm4q666JiE=&amp;h=316&amp;w=425&amp;sz=153&amp;hl=en&amp;start=17&amp;sig2=4xnf-yalR8lSPXmciDN1Dw&amp;tbnid=xW99am0M1f0B9M:&amp;tbnh=94&amp;tbnw=126&amp;ei=_j2SSa_4NpjcmQfVtIC7DA&amp;prev=/images%3Fq%3D%25D7%2591%25D7%2593%25D7%2595%25D7%2590%25D7%2599%25D7%259D%26hl%3Den%26sa%3D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oralnofesh.co.il/data/Images/&#1508;&#1497;&#1514;&#1493;&#1514;%2520&#1514;&#1511;&#1512;&#1497;&#1489;.jpg&amp;imgrefurl=http://www.doralnofesh.co.il/Site/he/pages/inPage.asp%3FcatID%3D7%26subID%3D8&amp;usg=__Ideke6PXChfUfPQeuCr6Px1t93s=&amp;h=382&amp;w=573&amp;sz=177&amp;hl=en&amp;start=24&amp;sig2=715i1WvGQgafm9-FhA4xiw&amp;tbnid=M7vanXRSPP-giM:&amp;tbnh=89&amp;tbnw=134&amp;ei=bz-SSYvbNZjcmQfftri7DA&amp;prev=/images%3Fq%3D%25D7%25A4%25D7%2599%25D7%25AA%25D7%2595%25D7%25AA%2B%25D7%2591%25D7%2593%25D7%2595%25D7%2590%25D7%2599%25D7%25AA%26start%3D21%26hl%3Den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quad.co.il/8/4.jpg&amp;imgrefurl=http://www.quad.co.il/%25D7%2590%25D7%2595%25D7%2594%25D7%259C_%25D7%2591%25D7%2593%25D7%2595%25D7%2590%25D7%2599.asp&amp;usg=__33lHu7_NRfBzJyWTNHB3IBZh_rw=&amp;h=128&amp;w=170&amp;sz=10&amp;hl=en&amp;start=23&amp;sig2=nQgb2hIAWCpvBSES48OXeg&amp;tbnid=MUdL6ctKMsiCLM:&amp;tbnh=75&amp;tbnw=99&amp;ei=bz-SSYvbNZjcmQfftri7DA&amp;prev=/images%3Fq%3D%25D7%25A4%25D7%2599%25D7%25AA%25D7%2595%25D7%25AA%2B%25D7%2591%25D7%2593%25D7%2595%25D7%2590%25D7%2599%25D7%25AA%26start%3D21%26hl%3Den%26sa%3D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oralnofesh.co.il/data/Images/&#1508;&#1497;&#1514;&#1493;&#1514;%2520&#1514;&#1511;&#1512;&#1497;&#1489;.jpg&amp;imgrefurl=http://www.doralnofesh.co.il/Site/he/pages/inPage.asp%3FcatID%3D7%26subID%3D8&amp;usg=__Ideke6PXChfUfPQeuCr6Px1t93s=&amp;h=382&amp;w=573&amp;sz=177&amp;hl=en&amp;start=24&amp;sig2=715i1WvGQgafm9-FhA4xiw&amp;tbnid=M7vanXRSPP-giM:&amp;tbnh=89&amp;tbnw=134&amp;ei=bz-SSYvbNZjcmQfftri7DA&amp;prev=/images%3Fq%3D%25D7%25A4%25D7%2599%25D7%25AA%25D7%2595%25D7%25AA%2B%25D7%2591%25D7%2593%25D7%2595%25D7%2590%25D7%2599%25D7%25AA%26start%3D21%26hl%3Den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landwer.co.il/_uploads/extraimg/fingan(2).jpg&amp;imgrefurl=http://www.landwer.co.il/%3FCategoryID%3D84%26ArticleID%3D289&amp;usg=__DhQPjpCANw3VNMEHrb9UGE6SAOg=&amp;h=288&amp;w=384&amp;sz=34&amp;hl=en&amp;start=3&amp;sig2=5MhYfzMGigqlOfMDKoGusQ&amp;tbnid=-fh94VMyyRUfPM:&amp;tbnh=92&amp;tbnw=123&amp;ei=1T-SSbG1M9bJmQfRi8yoDA&amp;prev=/images%3Fq%3D%25D7%25A7%25D7%25A4%25D7%2594%2B%25D7%2591%25D7%2593%25D7%2595%25D7%2590%25D7%2599%26hl%3Den%26sa%3D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livecity.co.il/image/users/87781/ftp/my_files/coffe-small.png&amp;imgrefurl=http://www.shamar.co.il/87781/%25D7%259E%25D7%2590%25D7%259B%25D7%259C%25D7%2599%25D7%259D-%25D7%2591%25D7%2593%25D7%2595%25D7%2590%25D7%2599%25D7%259D&amp;usg=__rz0-bUTfKToN8oZykggqKpxxsEo=&amp;h=171&amp;w=225&amp;sz=82&amp;hl=en&amp;start=25&amp;sig2=vOtzST7NhhePdsm1fmAi_Q&amp;tbnid=oT0CN0fLEur3KM:&amp;tbnh=82&amp;tbnw=108&amp;ei=AECSSb2NE5XlmQeQxay0DA&amp;prev=/images%3Fq%3D%25D7%25A7%25D7%25A4%25D7%2594%2B%25D7%2591%25D7%2593%25D7%2595%25D7%2590%25D7%2599%26start%3D21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gdol.co.il/Upload/316399.jpg&amp;imgrefurl=http://ligdol.co.il/Ligdolindexes/Content.aspx%3FIndexId%3D165&amp;usg=__fRwnPl-2G4fbXUG4qB4Gu--LT6o=&amp;h=150&amp;w=200&amp;sz=22&amp;hl=en&amp;start=69&amp;sig2=rn9V_Tuclae6s84ocJSVOw&amp;tbnid=cL0vB_q_7IBIhM:&amp;tbnh=78&amp;tbnw=104&amp;ei=SkCSScyQENKwmQewmKGwDA&amp;prev=/images%3Fq%3D%25D7%25A7%25D7%25A4%25D7%2594%2B%25D7%2591%25D7%2593%25D7%2595%25D7%2590%25D7%2599%26start%3D63%26hl%3Den%26sa%3DN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www.quad.co.il/8/3.jpg&amp;imgrefurl=http://www.quad.co.il/%25D7%2590%25D7%2595%25D7%2594%25D7%259C_%25D7%2591%25D7%2593%25D7%2595%25D7%2590%25D7%2599.asp&amp;usg=__8cun84Ye75-ms22-kFVJmyDg5v0=&amp;h=128&amp;w=170&amp;sz=10&amp;hl=en&amp;start=12&amp;sig2=czfvaQQ7YO1D0pFUhfp5Qw&amp;tbnid=RWhaMFAubK8i2M:&amp;tbnh=75&amp;tbnw=99&amp;ei=cUCSSZS_FoHWMd2tyesL&amp;prev=/images%3Fq%3D%25D7%2590%25D7%2599%25D7%25A8%25D7%2595%25D7%2597%2B%2B%25D7%2591%25D7%2593%25D7%2595%25D7%2590%25D7%2599%26hl%3Den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olamagol.co.il/images/articles/birthdaybeduim_2.jpg&amp;imgrefurl=http://www.olamagol.co.il/index.php%3Ftopic%3Dbirthdayparty&amp;usg=__mWS952TgsokKJWUYCCCMoiAai_U=&amp;h=292&amp;w=389&amp;sz=54&amp;hl=en&amp;start=23&amp;sig2=S_9nZEBd5HrmSI7VeIUKQQ&amp;tbnid=Itr3xH3KsEwZmM:&amp;tbnh=92&amp;tbnw=123&amp;ei=oUCSSfeMJZC2MeTW5MYD&amp;prev=/images%3Fq%3D%25D7%2590%25D7%2599%25D7%25A8%25D7%2595%25D7%2597%2B%2B%25D7%2591%25D7%2593%25D7%2595%25D7%2590%25D7%2599%26start%3D21%26hl%3Den%26sa%3DN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hamar.co.il/image/users/87781/ftp/my_files/us.jpg&amp;imgrefurl=http://www.shamar.co.il/87781/%25D7%2590%25D7%2599%25D7%25A8%25D7%2595%25D7%2597-%25D7%2591%25D7%2593%25D7%2595%25D7%2590%25D7%2599&amp;usg=__3jFQjJx69pep5qSOy778KjCv0f8=&amp;h=196&amp;w=300&amp;sz=94&amp;hl=en&amp;start=27&amp;sig2=HPfUuT6cPE_LNH6mF6TZBQ&amp;tbnid=-SA0W4Xxv_D2eM:&amp;tbnh=76&amp;tbnw=116&amp;ei=oUCSSfeMJZC2MeTW5MYD&amp;prev=/images%3Fq%3D%25D7%2590%25D7%2599%25D7%25A8%25D7%2595%25D7%2597%2B%2B%25D7%2591%25D7%2593%25D7%2595%25D7%2590%25D7%2599%26start%3D21%26hl%3Den%26sa%3DN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dex.co.il/upload/infocenter/info_images/071020080956201.jpg&amp;imgrefurl=http://www.index.co.il/mojotemplates/%3Finfo_id%3D322203&amp;usg=__hu5839DchB3BS-3MVlVDATfMXYQ=&amp;h=185&amp;w=260&amp;sz=22&amp;hl=en&amp;start=34&amp;sig2=GOnpbBupEt9MJHzUz6shEg&amp;tbnid=OpwKGuXKTOGYrM:&amp;tbnh=80&amp;tbnw=112&amp;ei=oUCSSfeMJZC2MeTW5MYD&amp;prev=/images%3Fq%3D%25D7%2590%25D7%2599%25D7%25A8%25D7%2595%25D7%2597%2B%2B%25D7%2591%25D7%2593%25D7%2595%25D7%2590%25D7%2599%26start%3D21%26hl%3Den%26sa%3DN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leepers.co.il/img/productImages/young.jpg&amp;imgrefurl=http://www.sleepers.co.il/categories.asp%3FcID%3D27&amp;usg=__lvimXZaT6LG5-Xt_3zs8x-IpKEk=&amp;h=250&amp;w=300&amp;sz=7&amp;hl=en&amp;start=23&amp;sig2=aCKUxGfDdxBi9ICDtUeniA&amp;um=1&amp;tbnid=O78FUISRmS8iUM:&amp;tbnh=97&amp;tbnw=116&amp;ei=m0GSSfr9LJjcmQfvtbi7DA&amp;prev=/images%3Fq%3D%25D7%259E%25D7%2599%25D7%2598%25D7%2594%2B%25D7%2596%25D7%2595%25D7%2592%25D7%2599%25D7%25AA%26start%3D21%26um%3D1%26hl%3Den%26rlz%3D1T4SKPB_enUS283US283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b.unimelb.edu.au/collections/grainger/exhibitions/viewing/Disk_One/DSC_0036.jpg&amp;imgrefurl=http://www.musicaustralia.org/apps/MA%3Ffunction%3DsearchResults%26formatType%3Dobjects%26scope%3Dscope&amp;usg=__yxl7QUZ3Wd123ud_mXpycHiv5uI=&amp;h=600&amp;w=391&amp;sz=163&amp;hl=en&amp;start=3&amp;sig2=UGAMjud9tj6-nIhM2QJt_A&amp;um=1&amp;tbnid=8YVSIdHl2IqryM:&amp;tbnh=135&amp;tbnw=88&amp;ei=y0GSSfOcM5jcmQf4tbi7DA&amp;prev=/images%3Fq%3D%25D7%259B%25D7%2599%25D7%25A1%25D7%2590%26um%3D1%26hl%3Den%26rlz%3D1T4SKPB_enUS283US283%26sa%3D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com/imgres?imgurl=http://www.israellycool.com/beer%2520sheva.jpg&amp;imgrefurl=http://www.israellycool.com/2004/10/13/israel-in-pictures-6/&amp;usg=__LuAOS1n8rfWfabox11os2keP2_Q=&amp;h=536&amp;w=800&amp;sz=82&amp;hl=en&amp;start=11&amp;sig2=NR5JS0nYGj-9kgA_LwHAqg&amp;um=1&amp;tbnid=Myyn8xcPvI4-XM:&amp;tbnh=96&amp;tbnw=143&amp;ei=xTiSSaGdK8rBmQeUlfS1DA&amp;prev=/images%3Fq%3Dbeer%2B%2Bsheva%2Bisrael%26um%3D1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951375/negev12.jpg&amp;imgrefurl=http://www.ynet.co.il/yaan/0,7340,L-22928,00.html&amp;usg=__wNylrNlz58TXeVmTzeamHj0OTHU=&amp;h=271&amp;w=408&amp;sz=28&amp;hl=en&amp;start=25&amp;sig2=jEMgrIrgXFoGSv-Hn4-5ZQ&amp;um=1&amp;tbnid=ZMANsrEmJT38aM:&amp;tbnh=83&amp;tbnw=125&amp;ei=QkKSSbDHM4miMtvTieoL&amp;prev=/images%3Fq%3D%25D7%25A0%25D7%2592%25D7%2591%26start%3D21%26um%3D1%26hl%3Den%26rlz%3D1T4SKPB_enUS283US283%26sa%3DN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images.google.com/imgres?imgurl=http://blog.tapuz.co.il/october15th/images/1291931_6.JPG&amp;imgrefurl=http://www.tapuz.co.il/blog/userblog.asp%3Fpagenumber%3D4%26passok%3Dyes%26FolderName%3Doctober15th%26blogId%3D77598%26tagname%3D&amp;usg=__vXYSqEN4Rrm49hW3fcOSlpC8n0A=&amp;h=925&amp;w=591&amp;sz=120&amp;hl=en&amp;start=12&amp;sig2=diBBAITubpuK-4ZLmGF80Q&amp;um=1&amp;tbnid=AcLP9vB3andVNM:&amp;tbnh=147&amp;tbnw=94&amp;ei=dUKSSdXlFdaQmQfRoOGmDA&amp;prev=/images%3Fq%3D%25D7%25A0%25D7%2592%25D7%2591%2B%2B%25D7%259E%25D7%25A4%25D7%2594%26um%3D1%26hl%3Den%26rlz%3D1T4SKPB_enUS283US283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mages.google.com/imgres?imgurl=http://www.boker.org.il/meida/negev/desert_biking/zin/zin4.jpg&amp;imgrefurl=http://biking.boker.org.il/hsuggest.htm&amp;usg=__ML2Cf9wMKgRLCUisNPpM8EboXVs=&amp;h=290&amp;w=439&amp;sz=150&amp;hl=en&amp;start=20&amp;sig2=cV6TRGDwErQ2_lwKnbTahw&amp;um=1&amp;tbnid=5D99Dnwxyf8t_M:&amp;tbnh=84&amp;tbnw=127&amp;ei=NUKSSf2yNdKwmQewmKGwDA&amp;prev=/images%3Fq%3D%25D7%25A0%25D7%2592%25D7%2591%26um%3D1%26hl%3Den%26rlz%3D1T4SKPB_enUS283US283%26sa%3DN" TargetMode="External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irat.co.il/Media/Uploads/pic1.gif&amp;imgrefurl=http://www.tirat.co.il/Htmls/article.aspx%3FC2004%3D11988%26BSP%3D12026%26BSS2004%3D11988%26BSCP%3D12026%26BSS2024%3D11988%26BSS21%3D11981%26BSS22%3D11996&amp;usg=__PhwWL0E5oiq9LcK4nxFFphHkIJY=&amp;h=408&amp;w=300&amp;sz=41&amp;hl=en&amp;start=4&amp;sig2=2SH77h2PVG7vAfcGrxM2UQ&amp;um=1&amp;tbnid=nfh_q_Bdbmd9aM:&amp;tbnh=125&amp;tbnw=92&amp;ei=60KSSb3mEonaMN-w6fML&amp;prev=/images%3Fq%3D%25D7%25A9%25D7%2598%25D7%2599%25D7%2597%26um%3D1%26hl%3Den%26rlz%3D1T4SKPB_enUS283US283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lamiran.org/IranInfo/Culture/Arts/carpetweaving/p146_large.jpg&amp;imgrefurl=http://www.salamiran.org/IranInfo/Culture/Arts/carpetweaving/index.html&amp;usg=__1xKRt3t7veGlcPB1259jlAH8pZA=&amp;h=554&amp;w=724&amp;sz=211&amp;hl=en&amp;start=8&amp;sig2=OpNEwBXCAnrubj1-Jr9OTg&amp;um=1&amp;tbnid=Mphy6EcvJwEhXM:&amp;tbnh=107&amp;tbnw=140&amp;ei=60KSSb3mEonaMN-w6fML&amp;prev=/images%3Fq%3D%25D7%25A9%25D7%2598%25D7%2599%25D7%2597%26um%3D1%26hl%3Den%26rlz%3D1T4SKPB_enUS283US283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biz.co.il/bizProducts/l4692_415.jpg&amp;imgrefurl=http://2biz.co.il/sale415.html&amp;usg=__KQxJgxYytMaRvjPJhNhEeGVkhgw=&amp;h=628&amp;w=700&amp;sz=51&amp;hl=en&amp;start=7&amp;sig2=4Zy6EKDGhsQCZ_GHL5tjrA&amp;um=1&amp;tbnid=0xV4yDkO2AxL3M:&amp;tbnh=126&amp;tbnw=140&amp;ei=w0OSScKZE56MmQfZvpW5DA&amp;prev=/images%3Fq%3D%25D7%25A9%25D7%25AA%25D7%2599%2B%25D7%259B%25D7%25A1%25D7%2590%25D7%2595%25D7%25AA%26um%3D1%26hl%3Den%26rlz%3D1T4SKPB_enUS283US283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biz.co.il/bizProducts/l4692_415.jpg&amp;imgrefurl=http://2biz.co.il/sale415.html&amp;usg=__KQxJgxYytMaRvjPJhNhEeGVkhgw=&amp;h=628&amp;w=700&amp;sz=51&amp;hl=en&amp;start=7&amp;sig2=4Zy6EKDGhsQCZ_GHL5tjrA&amp;um=1&amp;tbnid=0xV4yDkO2AxL3M:&amp;tbnh=126&amp;tbnw=140&amp;ei=w0OSScKZE56MmQfZvpW5DA&amp;prev=/images%3Fq%3D%25D7%25A9%25D7%25AA%25D7%2599%2B%25D7%259B%25D7%25A1%25D7%2590%25D7%2595%25D7%25AA%26um%3D1%26hl%3Den%26rlz%3D1T4SKPB_enUS283US283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858384/D825-133_wa.jpg&amp;imgrefurl=http://www.ynet.co.il/yaan/0,7340,L-294055,00.html&amp;usg=__XB_qDICyhI6jgIqDZzf4sz-THYc=&amp;h=258&amp;w=408&amp;sz=37&amp;hl=en&amp;start=4&amp;sig2=L8XWI-Nb0HiibmB-dsCqBg&amp;um=1&amp;tbnid=yq22TIyYjxZ-bM:&amp;tbnh=79&amp;tbnw=125&amp;ei=TUaSSYDoAqW-MYL_1NYL&amp;prev=/images%3Fq%3D%25D7%25A8%25D7%2594%25D7%2598%26um%3D1%26hl%3Den%26rlz%3D1T4SKPB_enUS283US283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04062007/1156706/Untitled-7_wa.jpg&amp;imgrefurl=http://www.ynet.co.il/articles/0,7340,L-3417540,00.html&amp;usg=__XXhEr57OBkbazc8Tq__z57PFI0Q=&amp;h=298&amp;w=408&amp;sz=21&amp;hl=en&amp;start=2&amp;sig2=-aUB1Up0ncAdyBSD_ibEKw&amp;um=1&amp;tbnid=qdCkOxPJj8eQ5M:&amp;tbnh=91&amp;tbnw=125&amp;ei=TUaSSYDoAqW-MYL_1NYL&amp;prev=/images%3Fq%3D%25D7%25A8%25D7%2594%25D7%2598%26um%3D1%26hl%3Den%26rlz%3D1T4SKPB_enUS283US283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seaqueens.com/images/Gallery/Bedouin%2520Women%2520in%2520Traditional%2520Attire.JPG&amp;imgrefurl=http://www.seaqueens.com/ge/gallery.html&amp;usg=__XfpA3iViE34CofGclyp72afjxwc=&amp;h=1536&amp;w=2048&amp;sz=300&amp;hl=en&amp;start=8&amp;sig2=XagI6McdOU_8kxCkgwbbPg&amp;um=1&amp;tbnid=V3SZz1h6mbsOeM:&amp;tbnh=113&amp;tbnw=150&amp;ei=v0aSSYaxE6W-MYqDheEL&amp;prev=/images%3Fq%3D%25D7%2591%25D7%2593%25D7%2595%25D7%2590%25D7%2599%25D7%259D%26um%3D1%26hl%3Den%26rlz%3D1T4SKPB_enUS283US283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google.com/imgres?imgurl=http://twinsafariredsea.com/images/Bedouin_Resting.jpg&amp;imgrefurl=http://twinsafariredsea.com/contacts.htm&amp;usg=__0avRhkEnm_KHwORTr1CComFXlPI=&amp;h=359&amp;w=500&amp;sz=32&amp;hl=en&amp;start=4&amp;sig2=U2Hn4ys5pIe6cmi_1wVlcQ&amp;um=1&amp;tbnid=bsZ71yWX4eTQYM:&amp;tbnh=93&amp;tbnw=130&amp;ei=v0aSSYaxE6W-MYqDheEL&amp;prev=/images%3Fq%3D%25D7%2591%25D7%2593%25D7%2595%25D7%2590%25D7%2599%25D7%259D%26um%3D1%26hl%3Den%26rlz%3D1T4SKPB_enUS283US283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larnavigator.net/www.arabiantents.com/arabian_tents_images/bedouin_nasserwadirum_camp_fire.jpg&amp;imgrefurl=http://www.solarnavigator.net/www.arabiantents.com/bedouins.htm&amp;usg=__PCM2ovmbReOdij7U0jd-K20sPIs=&amp;h=395&amp;w=332&amp;sz=24&amp;hl=en&amp;start=9&amp;sig2=5B2VHT5pdRhHHf8saOGq7A&amp;um=1&amp;tbnid=na17iW6mlu4fbM:&amp;tbnh=124&amp;tbnw=104&amp;ei=v0aSSYaxE6W-MYqDheEL&amp;prev=/images%3Fq%3D%25D7%2591%25D7%2593%25D7%2595%25D7%2590%25D7%2599%25D7%259D%26um%3D1%26hl%3Den%26rlz%3D1T4SKPB_enUS283US283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132/2812740307_a25ef61e78.jpg%3Fv%3D0&amp;imgrefurl=http://flickr.com/photos/7692210%40N02/2812740307/&amp;usg=__UTUbW71zKEgkyu3OObFGiToEQDw=&amp;h=341&amp;w=500&amp;sz=225&amp;hl=en&amp;start=18&amp;sig2=Uo9CGuSx3l0KiLVGCbUQYw&amp;um=1&amp;tbnid=7LT9uMYL8cgn3M:&amp;tbnh=89&amp;tbnw=130&amp;ei=AzmSSeqENJjcmQePtri7DA&amp;prev=/images%3Fq%3Drahat%2Bbeduin%2Bcity%2Bisrael%26um%3D1%26hl%3Den%26sa%3DX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ynetnews.com/PicServer2/04062007/1156706/Untitled-7_wa.jpg&amp;imgrefurl=http://www.ynetnews.com/articles/0,7340,L-3420595,00.html&amp;usg=__zx0m47W5HsW6btztkITFYPw1Q_Q=&amp;h=298&amp;w=408&amp;sz=21&amp;hl=en&amp;start=2&amp;sig2=-yYlnNz8nh55s8FiElwHsQ&amp;um=1&amp;tbnid=qdCkOxPJj8eQ5M:&amp;tbnh=91&amp;tbnw=125&amp;ei=AzmSSeqENJjcmQePtri7DA&amp;prev=/images%3Fq%3Drahat%2Bbeduin%2Bcity%2Bisrael%26um%3D1%26hl%3Den%26sa%3DX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net.co.il/PicServer2/20122005/806022/YE0428050_wa.jpg&amp;imgrefurl=http://www.ynet.co.il/Ext/Comp/ArticleLayout/CdaArticlePrintPreview/1,2506,L-3511867,00.html&amp;usg=__0VMciNeXUbB0_yBY8HOdqlw2Zec=&amp;h=232&amp;w=408&amp;sz=18&amp;hl=en&amp;start=19&amp;sig2=nxpqA9OWtTIrBhfBGbnJSg&amp;tbnid=q_Zi5i782og8ZM:&amp;tbnh=71&amp;tbnw=125&amp;ei=MTqSSeiwLNaQmQfgopWnDA&amp;prev=/images%3Fq%3D%25D7%259E%25D7%2595%25D7%2596%25D7%2599%25D7%2590%25D7%2595%25D7%259F%2B%25D7%25A8%25D7%2594%25D7%2598%2B%25D7%2591%25D7%25A0%25D7%2592%25D7%2591%26hl%3Den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mad.walla.co.il/w/18-200/243194-18.jpg&amp;imgrefurl=http://tourism.walla.co.il/%3Fw%3D/2501/969170&amp;usg=__Vzs_Fz5gD9vDXfBhoYZUVjYTXOI=&amp;h=150&amp;w=200&amp;sz=12&amp;hl=en&amp;start=6&amp;sig2=T7K25aRIboZcBJdMPnEeJQ&amp;tbnid=soSTjl0vX2wiSM:&amp;tbnh=78&amp;tbnw=104&amp;ei=MTqSSeiwLNaQmQfgopWnDA&amp;prev=/images%3Fq%3D%25D7%259E%25D7%2595%25D7%2596%25D7%2599%25D7%2590%25D7%2595%25D7%259F%2B%25D7%25A8%25D7%2594%25D7%2598%2B%25D7%2591%25D7%25A0%25D7%2592%25D7%2591%26hl%3Den%26sa%3D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ayarot.co.il/upload/tent/tent%20family%20big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allbiz.co.il/Pictures/23008/146413_&#1488;&#1492;&#1500;_&#1489;&#1491;&#1493;&#1488;&#1497;_&#1506;&#1501;__&#1497;&#1500;&#1491;&#1497;&#1501;.jpg&amp;imgrefurl=http://www.allbiz.co.il/ShowPic.asp%3Fid%3D37628&amp;usg=__Ocm--YpOi2ZcGZ4DU7MG3mFvTCI=&amp;h=583&amp;w=950&amp;sz=82&amp;hl=en&amp;start=1&amp;sig2=atnROegoEXyg5HL6y9uE1g&amp;tbnid=Y-WrJku_h0EFPM:&amp;tbnh=91&amp;tbnw=148&amp;ei=aTuSSfjpFZXlmQeAxay0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vecity.co.il/image/users/23344/ftp/my_files/7562.jpg&amp;imgrefurl=http://www.nevemidbar-beach.com/site/detail/detail/detailDetail.asp%3Fdetail_id%3D153974&amp;usg=__F4r-NW_EZ1peIndJtnWxp4aQOc4=&amp;h=397&amp;w=600&amp;sz=104&amp;hl=en&amp;start=3&amp;sig2=Zs4pF8ACjLkPU2CFqLpoVQ&amp;tbnid=pJA_OAqonFoMWM:&amp;tbnh=89&amp;tbnw=135&amp;ei=aTuSSfjpFZXlmQeAxay0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j-zi.com/media/uploads/03.jpg&amp;imgrefurl=http://www.dj-zi.com/HTMLs/gallery.aspx%3FC2057%3D12569%26BSP%3D12273%26BSS110%3D12569&amp;usg=__Nv5l_RBX4MbHrH5ZFriuo-xmNSc=&amp;h=188&amp;w=250&amp;sz=17&amp;hl=en&amp;start=6&amp;sig2=Cc7tAvbkFZ1NeCEouwYbzw&amp;tbnid=m7J-BBW_l3RmfM:&amp;tbnh=83&amp;tbnw=111&amp;ei=aTuSSfjpFZXlmQeAxay0DA&amp;prev=/images%3Fq%3D%25D7%2590%25D7%2595%25D7%2594%25D7%259C%2B%25D7%2591%25D7%2593%25D7%2595%25D7%2590%25D7%2599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sleepers.co.il/img/productImages/young.jpg&amp;imgrefurl=http://www.sleepers.co.il/categories.asp%3FcID%3D27&amp;usg=__lvimXZaT6LG5-Xt_3zs8x-IpKEk=&amp;h=250&amp;w=300&amp;sz=7&amp;hl=en&amp;start=2&amp;sig2=RATVhni9PNEiPzrw_NYYvw&amp;tbnid=O78FUISRmS8iUM:&amp;tbnh=97&amp;tbnw=116&amp;ei=5zuSSeHbI9XkmQfLjdSqDA&amp;prev=/images%3Fq%3D%25D7%259E%25D7%2599%25D7%2598%25D7%2594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2all.co.il/uploads/yad2/&#1513;&#1493;&#1500;&#1495;&#1503;%2520&#1495;&#1493;&#1501;%25203(1).JPG&amp;imgrefurl=http://www.2all.co.il/ShowsBoard.asp%3FT1%3D17%26T2%3D5%26T3%3D&amp;usg=__mKznaomSHELw2mds-pw2uzjcR8Q=&amp;h=375&amp;w=500&amp;sz=21&amp;hl=en&amp;start=13&amp;sig2=dI8Jev3Pfu717vJkEOFAvg&amp;tbnid=tgMhLPmfXSgymM:&amp;tbnh=98&amp;tbnw=130&amp;ei=_TuSSeGTHNvFmQeu9cylBw&amp;prev=/images%3Fq%3D%25D7%25A9%25D7%2595%25D7%259C%25D7%2597%25D7%259F%26hl%3Den%26sa%3D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hamar.co.il/image/users/87781/ftp/my_files/carpet.png&amp;imgrefurl=http://www.shamar.co.il/87781/%25D7%2591%25D7%2599%25D7%25AA-%25D7%2590%25D7%25A8%25D7%2599%25D7%2592%25D7%2594-%25D7%2591%25D7%2593%25D7%2595%25D7%2590%25D7%2599&amp;usg=__a4VA2Deznnen80gzX4yair43mhc=&amp;h=267&amp;w=200&amp;sz=120&amp;hl=en&amp;start=7&amp;sig2=bNcBjKtgK76Nlu-3cA5X5Q&amp;tbnid=VE7SjFNhbN24fM:&amp;tbnh=113&amp;tbnw=85&amp;ei=aDySSbD8JYb4NJWVwNoD&amp;prev=/images%3Fq%3D%25D7%25A9%25D7%2598%25D7%2599%25D7%2597%2B%25D7%2591%25D7%2593%25D7%2595%25D7%2590%25D7%2599%26hl%3De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armey-avdat.co.il/image/users/63488/departAlbum/63488/normal/285536.JPG&amp;imgrefurl=http://www.carmey-avdat.co.il/63488/%25D7%2598%25D7%2599%25D7%2595%25D7%259C%25D7%2599%25D7%259D&amp;usg=__SCaVkY3qA4-1krSYHyojcIj_6Zs=&amp;h=315&amp;w=480&amp;sz=24&amp;hl=en&amp;start=17&amp;sig2=VWQbWsX2urNG0kw20VCyjA&amp;tbnid=_ASkxsy_aA79cM:&amp;tbnh=85&amp;tbnw=129&amp;ei=2zySSeDGCNXkmQf-jNCqDA&amp;prev=/images%3Fq%3D%25D7%2590%25D7%2595%25D7%2594%25D7%259C%2B%25D7%2591%25D7%2593%25D7%2595%25D7%2590%25D7%2599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וזיאון  בנג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20060415 008 Joe Alon Bedouin Museum by Eilam Gil."/>
          <p:cNvPicPr/>
          <p:nvPr/>
        </p:nvPicPr>
        <p:blipFill>
          <a:blip r:embed="rId1"/>
          <a:stretch/>
        </p:blipFill>
        <p:spPr>
          <a:xfrm>
            <a:off x="4114800" y="22096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429000" cy="2622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2971800"/>
            <a:ext cx="1603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שטיחים הם המיטות, הכיסאות והשולחנו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יס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75248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והל  בדואי    בלי   רהיט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רק  שטיח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15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    יש   שני    חד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הנשים יושבות עם הילדים בחדר אח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362320"/>
            <a:ext cx="3200400" cy="2404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5520" y="2133720"/>
            <a:ext cx="53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הגברים יושבים בחדר אחד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971800"/>
            <a:ext cx="2895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יד המוזיאון יש קפיטריה עם אוכל בדואי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3302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200400"/>
            <a:ext cx="37339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יתות   מיוחדות    וקפה  טו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666880"/>
            <a:ext cx="3105000" cy="206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209680"/>
            <a:ext cx="3200400" cy="239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4648320"/>
            <a:ext cx="190512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שים מכל העולם  באים למוזיאון ולומדים שם על הבדוא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2420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803240"/>
            <a:ext cx="3124080" cy="2367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4157640"/>
            <a:ext cx="2667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ם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666880"/>
            <a:ext cx="487692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 בנג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057400"/>
            <a:ext cx="4572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__ __ __ __ 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9400" y="2967120"/>
            <a:ext cx="405792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__ __ __ __ 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כיסא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76840" y="2362320"/>
            <a:ext cx="2482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נגב   ליד  באר  שבע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27484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862280"/>
            <a:ext cx="4952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__ __ __ __ __  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2149560"/>
            <a:ext cx="44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ה __ __ __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נגב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038480"/>
            <a:ext cx="3581280" cy="2378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57320" y="2743200"/>
            <a:ext cx="2095560" cy="327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2184480"/>
            <a:ext cx="266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שטיח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33880" y="2833560"/>
            <a:ext cx="28494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 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ני  שטי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2917800"/>
            <a:ext cx="4495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תי   __ __ __ __ __ __ ושולח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כיסאות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05280" y="282888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תי   כיסאות  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05280" y="282888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פה  רה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בנגב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33440"/>
            <a:ext cx="55623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 גר  ברה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דוא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3643560" cy="26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724280"/>
            <a:ext cx="2819160" cy="212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2895480"/>
            <a:ext cx="2057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 בדוא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981080"/>
            <a:ext cx="33717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לה  __ __ __ __  בדואי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נש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29000" y="2506680"/>
            <a:ext cx="5562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עיר של בדווים -  רה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4800600" cy="32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048120"/>
            <a:ext cx="31244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 של איש בדוא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גמ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 מיוחד בנג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קו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05320" y="2692440"/>
            <a:ext cx="5067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ה  ה __ __ __ __  שגברת סיגל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תה  בצה"ל  ב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( צופר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מקו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2641680"/>
            <a:ext cx="3124440" cy="2349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02920" y="3276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19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286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לה  __ __ __ __ __ 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דנמרק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9917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3543480"/>
            <a:ext cx="3314880" cy="3314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477120" y="10666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__ של   הי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16400" y="2714760"/>
            <a:ext cx="34178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 אח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דק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שרה  לארב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94336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שר  וחמ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2880" y="259092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לוש  וחמיש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יד  רהט  יש מוזיאון מיוחד על החיים של הבדוו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482920"/>
            <a:ext cx="4343400" cy="246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362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מוזיאון   יש  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גדו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835280"/>
            <a:ext cx="533376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824120"/>
            <a:ext cx="68580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    אין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590920"/>
            <a:ext cx="495324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ט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ואין  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נו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357280"/>
            <a:ext cx="4191120" cy="3135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057400"/>
            <a:ext cx="1676520" cy="140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4038480"/>
            <a:ext cx="2057400" cy="1551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19320" y="36576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ש  שם  שטיחים  גדולים  ויפ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59092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673360"/>
            <a:ext cx="43434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2:24:20Z</dcterms:created>
  <dc:creator>Preferred Customer</dc:creator>
  <dc:description/>
  <dc:language>en-US</dc:language>
  <cp:lastModifiedBy>aschlezinger</cp:lastModifiedBy>
  <dcterms:modified xsi:type="dcterms:W3CDTF">2011-02-17T18:29:05Z</dcterms:modified>
  <cp:revision>2</cp:revision>
  <dc:subject/>
  <dc:title>מוזיאון  בנגב  </dc:title>
</cp:coreProperties>
</file>